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7B4B42-241B-4850-8C64-21EC3C76B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90169-3F0D-4D2D-A128-6C5CBBAB0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FDC72F-846D-435A-9FCB-9AE3F0A444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F337B9-9173-476D-AB8C-13355069E2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90205E-A1C2-477E-AB6C-67AD0AC782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07E049-9FBC-4475-8FA3-DCC78B8F7B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BDFAC0-AF4B-4862-A7C8-C195948968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0FD9C-7474-4C56-B050-F734598119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F1D3B2-284E-4412-A57A-D1D7DCD9C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A1FF12-0CE2-482D-9CB5-869B2F29D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D8F39E-A463-4507-AAE9-BBC3C9BA22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4BC36-72AE-428B-ADE2-B361313C3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353717-C3E3-4C2F-932C-B1DAB19A9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756E39-AC5A-411B-A289-B38D81C45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E378B1-06BC-4A42-B92B-801DA65434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7D0D05-0E97-4B8E-9889-CF1D2994E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70D71C-D5B8-4870-8293-0407344D94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1BB10-7C83-436E-AB5A-20EFB5B20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0B9450-9B7E-48A8-BB13-FAAC76AB53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D1468B-FB87-4E8F-BD95-DA3C1C08F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46AE8B-808F-4FAA-8A41-AEC17F5F4E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8615BB-5C2A-422E-8508-A0EFFAB803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D8F2D-F3A1-4A10-B8F4-0400D73AB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89DF8-ACE8-449F-944A-A9DBFA2303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CD0B6-33E6-4AD4-A123-6F519691921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D9B1-B40B-4E23-868E-D918151F817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8/81/95Thesen.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43000" y="3032280"/>
            <a:ext cx="6019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Arial"/>
              </a:rPr>
              <a:t>Protestantism I</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10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ism quickly spread to Switzerland, Scandinavia, England, Scotland, Netherlands, and Franc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formation led to a series of religious wars that culminated in the Thirty Years W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10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1618 to 1648 the Catholic Habsburgs, who ruled Spain, Austria, the Spanish Netherlands and most of Germany and Italy fought against the Protestant princes of Germany, supported by Denmark and Swede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10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formation Era came to a close when Catholic France allied herself, first in secret and later on the battlefields, with the Protestants against the Habsburg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e first time since the days of Luther, political and national convictions again outweighed religious convictions in Europ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hurches Born of the Reformation</a:t>
            </a:r>
            <a:endParaRPr b="0" lang="en-US" sz="4000" spc="-1" strike="noStrike">
              <a:solidFill>
                <a:srgbClr val="99cc00"/>
              </a:solidFill>
              <a:latin typeface="Arial"/>
            </a:endParaRPr>
          </a:p>
        </p:txBody>
      </p:sp>
      <p:sp>
        <p:nvSpPr>
          <p:cNvPr id="10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glic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abaptism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alvi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winglianism</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Post-Reformation Churches</a:t>
            </a:r>
            <a:endParaRPr b="0" lang="en-US" sz="4000" spc="-1" strike="noStrike">
              <a:solidFill>
                <a:srgbClr val="99cc00"/>
              </a:solidFill>
              <a:latin typeface="Arial"/>
            </a:endParaRPr>
          </a:p>
        </p:txBody>
      </p:sp>
      <p:sp>
        <p:nvSpPr>
          <p:cNvPr id="10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ptist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e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ntecostal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itan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oday there are over 33,000 Protestant denomin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Foundation of Protestant Belief</a:t>
            </a:r>
            <a:endParaRPr b="0" lang="en-US" sz="4000" spc="-1" strike="noStrike">
              <a:solidFill>
                <a:srgbClr val="99cc00"/>
              </a:solidFill>
              <a:latin typeface="Arial"/>
            </a:endParaRPr>
          </a:p>
        </p:txBody>
      </p:sp>
      <p:sp>
        <p:nvSpPr>
          <p:cNvPr id="11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ve Solas are five Latin phrases (or slogans) that emerged during the Protestant Reformation and summarize the Reformers' basic theological beliefs in contradiction to the teaching of the Roman Catholic Church of the day.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Foundation of Protestant Belief</a:t>
            </a:r>
            <a:endParaRPr b="0" lang="en-US" sz="4000" spc="-1" strike="noStrike">
              <a:solidFill>
                <a:srgbClr val="99cc00"/>
              </a:solidFill>
              <a:latin typeface="Arial"/>
            </a:endParaRPr>
          </a:p>
        </p:txBody>
      </p:sp>
      <p:sp>
        <p:nvSpPr>
          <p:cNvPr id="11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atin word sola means "alone," "only," or "single" in Englis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ive Solas were believed to be the only doctrines needed for salva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sting them as such explicitly excluded other doctrines that Protestants believed hindered salvat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Five Solas</a:t>
            </a:r>
            <a:endParaRPr b="0" lang="en-US" sz="4000" spc="-1" strike="noStrike">
              <a:solidFill>
                <a:srgbClr val="99cc00"/>
              </a:solidFill>
              <a:latin typeface="Arial"/>
            </a:endParaRPr>
          </a:p>
        </p:txBody>
      </p:sp>
      <p:sp>
        <p:nvSpPr>
          <p:cNvPr id="11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us Christus: Christ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 Scriptura: Scripture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 Fide: Faith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a Gratia: Grace Alo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li Deo gloria: Glory to God Alon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Christ Alone)</a:t>
            </a:r>
            <a:endParaRPr b="0" lang="en-US" sz="4000" spc="-1" strike="noStrike">
              <a:solidFill>
                <a:srgbClr val="99cc00"/>
              </a:solidFill>
              <a:latin typeface="Arial"/>
            </a:endParaRPr>
          </a:p>
        </p:txBody>
      </p:sp>
      <p:sp>
        <p:nvSpPr>
          <p:cNvPr id="11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s characterize the dogma concerning the Pope as Christ's representative head of the Church on earth, the concept of meritorious works, and the idea of veneration of the saints, as a denial that Christ is the only mediator between God and ma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 Scripture Alone</a:t>
            </a:r>
            <a:endParaRPr b="0" lang="en-US" sz="4000" spc="-1" strike="noStrike">
              <a:solidFill>
                <a:srgbClr val="99cc00"/>
              </a:solidFill>
              <a:latin typeface="Arial"/>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s believe that the doctrines of Apostolic churches obscure Bible teaching by convoluting it with church history and doctrin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ically oral tradition and teachings of the Fathers are rejected as human tradition and not authoritativ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Outline</a:t>
            </a:r>
            <a:endParaRPr b="0" lang="en-US" sz="4000" spc="-1" strike="noStrike">
              <a:solidFill>
                <a:srgbClr val="99cc00"/>
              </a:solidFill>
              <a:latin typeface="Arial"/>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ackground &amp; Birth of Protestan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ndation of Protestant Belief</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Solas</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dern Protestant Belief</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riptur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in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iesthood</a:t>
            </a:r>
            <a:endParaRPr b="0" lang="en-US" sz="2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 Scripture Alone</a:t>
            </a:r>
            <a:endParaRPr b="0" lang="en-US" sz="4000" spc="-1" strike="noStrike">
              <a:solidFill>
                <a:srgbClr val="99cc00"/>
              </a:solidFill>
              <a:latin typeface="Arial"/>
            </a:endParaRPr>
          </a:p>
        </p:txBody>
      </p:sp>
      <p:sp>
        <p:nvSpPr>
          <p:cNvPr id="12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m 3:15-17, “and that from childhood you have known the Holy Scriptures, which are able to make you wise for salvation through faith which is in Christ Jesus. All Scripture is given by inspiration of God, and is profitable for doctrine, for reproof, for correction, for instruction in righteousness, that the man of God may be complete, thoroughly equipped for every good work.”</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Faith Alone</a:t>
            </a:r>
            <a:endParaRPr b="0" lang="en-US" sz="4000" spc="-1" strike="noStrike">
              <a:solidFill>
                <a:srgbClr val="99cc00"/>
              </a:solidFill>
              <a:latin typeface="Arial"/>
            </a:endParaRPr>
          </a:p>
        </p:txBody>
      </p:sp>
      <p:sp>
        <p:nvSpPr>
          <p:cNvPr id="12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s believe that faith in Christ alone is enough for eternal salvation as described in Ephesians 2:8-9, whereas Apostolic churches believe that the phrases "faith without works is dead" (as stated in James 2:20) and "You see then that a man is justified by works, and not by faith only." (James 2:24); points to salvation needing to be earned.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testants, pointing to the same bit of scripture, believe that practicing good works attests to one's faith in Christ and his teaching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Gratia: Grace Alone</a:t>
            </a:r>
            <a:endParaRPr b="0" lang="en-US" sz="4000" spc="-1" strike="noStrike">
              <a:solidFill>
                <a:srgbClr val="99cc00"/>
              </a:solidFill>
              <a:latin typeface="Arial"/>
            </a:endParaRPr>
          </a:p>
        </p:txBody>
      </p:sp>
      <p:sp>
        <p:nvSpPr>
          <p:cNvPr id="12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Reformers posited that salvation is a gift of God (i.e., God's act of free grace), dispensed by the Holy Spirit owing to the redemptive work of Jesus Christ alone, and not depending on good works.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sequently, they argued that a sinner is not accepted by God on account of the change wrought in the believer by God's grace, but instead that the believer is accepted without regard for the merit of his works — for no one deserves salvation.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i Deo Gloria: Glory to God Alone </a:t>
            </a:r>
            <a:endParaRPr b="0" lang="en-US" sz="4000" spc="-1" strike="noStrike">
              <a:solidFill>
                <a:srgbClr val="99cc00"/>
              </a:solidFill>
              <a:latin typeface="Arial"/>
            </a:endParaRPr>
          </a:p>
        </p:txBody>
      </p:sp>
      <p:sp>
        <p:nvSpPr>
          <p:cNvPr id="12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l glory is due to God alone, since salvation is accomplished solely through His will and action—not only the gift of the all-sufficient atonement of Jesus Christ on the cross, but also the gift of faith, created in the heart of the believer by the Holy Spiri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i Deo Gloria: Glory to God Alone </a:t>
            </a:r>
            <a:endParaRPr b="0" lang="en-US" sz="4000" spc="-1" strike="noStrike">
              <a:solidFill>
                <a:srgbClr val="99cc00"/>
              </a:solidFill>
              <a:latin typeface="Arial"/>
            </a:endParaRPr>
          </a:p>
        </p:txBody>
      </p:sp>
      <p:sp>
        <p:nvSpPr>
          <p:cNvPr id="12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eformers believed that human beings, even saints canonized by the Roman Catholic Church, the popes, and the ecclesiastical hierarchy, are not worthy of the glory that was accorded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odern Protestant Belief: Scripture</a:t>
            </a:r>
            <a:endParaRPr b="0" lang="en-US" sz="4000" spc="-1" strike="noStrike">
              <a:solidFill>
                <a:srgbClr val="99cc00"/>
              </a:solidFill>
              <a:latin typeface="Arial"/>
            </a:endParaRPr>
          </a:p>
        </p:txBody>
      </p:sp>
      <p:sp>
        <p:nvSpPr>
          <p:cNvPr id="13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 Protestants would suggest that the Bible was verbally and plenarily inspired as some biblical inerrantists maintai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view holds that the Bible as we have it is the result of God's Holy Spirit directly revealing His </a:t>
            </a:r>
            <a:r>
              <a:rPr b="1" lang="en-US" sz="3200" spc="-1" strike="noStrike">
                <a:solidFill>
                  <a:srgbClr val="ffffff"/>
                </a:solidFill>
                <a:latin typeface="Arial"/>
              </a:rPr>
              <a:t>words</a:t>
            </a:r>
            <a:r>
              <a:rPr b="0" lang="en-US" sz="3200" spc="-1" strike="noStrike">
                <a:solidFill>
                  <a:srgbClr val="ffffff"/>
                </a:solidFill>
                <a:latin typeface="Arial"/>
              </a:rPr>
              <a:t> to its autho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odern Protestant Belief: Scripture</a:t>
            </a:r>
            <a:endParaRPr b="0" lang="en-US" sz="4000" spc="-1" strike="noStrike">
              <a:solidFill>
                <a:srgbClr val="99cc00"/>
              </a:solidFill>
              <a:latin typeface="Arial"/>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a general consensus that scripture must be interpreted both through the lens of the culture in which it was originally written, and examined using God-given reas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ither of these methods is believed to diminish the importance of scripture or is an indication that scripture is not the revelation of God's Wor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The Trinity</a:t>
            </a:r>
            <a:endParaRPr b="0" lang="en-US" sz="3600" spc="-1" strike="noStrike">
              <a:solidFill>
                <a:srgbClr val="99cc00"/>
              </a:solidFill>
              <a:latin typeface="Arial"/>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mainline denominations are Trinitarian, meaning they accept doctrine that God exists as three persons of one essence: God the Father, God the Son and God the Holy Spirit.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many mainline denominations take a more "hands-off" approach and do not require belief in the Trinity. Many mainline denominations also believe in the virgin birth of Ch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Priesthood</a:t>
            </a:r>
            <a:endParaRPr b="0" lang="en-US" sz="3600" spc="-1" strike="noStrike">
              <a:solidFill>
                <a:srgbClr val="99cc00"/>
              </a:solidFill>
              <a:latin typeface="Arial"/>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st Protestants today recognize only one mediator between them and God the Father, and that is God the Son, Jesus Christ (1 Timothy 2:5). The Epistle to the Hebrews calls Jesus the supreme "high priest," who offered Himself as a perfect sacrifice (Hebrews 7:23-28).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Priesthood</a:t>
            </a:r>
            <a:endParaRPr b="0" lang="en-US" sz="3600" spc="-1" strike="noStrike">
              <a:solidFill>
                <a:srgbClr val="99cc00"/>
              </a:solidFill>
              <a:latin typeface="Arial"/>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s believe that through Christ they have been given direct access to God, just like a priest; thus the doctrine is called the priesthood of all believers. God is equally accessible to all the faithful, and every Christian has equal potential to minister for Go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testantism was born out of the Protestant Reformation that began in Europe in 1517</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ovement began as an attempt to reform the Catholic Church which at the time suffered from several corrupted doctrines and practices including the teaching and sale of indulgence and the buying and selling of church positions (simon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Modern Protestant Belief: Priesthood</a:t>
            </a:r>
            <a:endParaRPr b="0" lang="en-US" sz="3600" spc="-1" strike="noStrike">
              <a:solidFill>
                <a:srgbClr val="99cc00"/>
              </a:solidFill>
              <a:latin typeface="Arial"/>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vast majority of Protestants nonetheless draw some distinction between their own ordained ministers and lay people, but regard it as a matter of church order and discipline rather than spiritual hierarc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Modern Protestant Belief</a:t>
            </a:r>
            <a:endParaRPr b="0" lang="en-US" sz="4000" spc="-1" strike="noStrike">
              <a:solidFill>
                <a:srgbClr val="99cc00"/>
              </a:solidFill>
              <a:latin typeface="Arial"/>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iven the wide gamut of Protestant belief, it is difficult to define what Protestants as a whole believe about any given doctrin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so, because Protestants believe that scripture is subject to private interpretation, there are many variations of belief even among those of the same denomin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protests against Rome began in earnest when Martin Luther, an Augustinian monk and professor at the university of Wittenberg, called in 1517 for reopening of the debate on the sale of indulgenc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indulgence was sold by the Catholic Church to a sinner to release him/her from punishment in Purgatory before going to Heave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protest, Luther nailed his </a:t>
            </a:r>
            <a:r>
              <a:rPr b="0" i="1" lang="en-US" sz="3200" spc="-1" strike="noStrike">
                <a:solidFill>
                  <a:srgbClr val="ffffff"/>
                </a:solidFill>
                <a:latin typeface="Arial"/>
              </a:rPr>
              <a:t>95 Theses</a:t>
            </a:r>
            <a:r>
              <a:rPr b="0" lang="en-US" sz="3200" spc="-1" strike="noStrike">
                <a:solidFill>
                  <a:srgbClr val="ffffff"/>
                </a:solidFill>
                <a:latin typeface="Arial"/>
              </a:rPr>
              <a:t> to the door of the Wittenberg Castle Church, which served as a notice board for university-related announcements. These were points for debate that criticized the Church and the Pop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s dissent marked a sudden outbreak of a new and irresistible force of discontent which had been pushed underground but not resolv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 95 Theses</a:t>
            </a:r>
            <a:endParaRPr b="0" lang="en-US" sz="4000" spc="-1" strike="noStrike">
              <a:solidFill>
                <a:srgbClr val="99cc00"/>
              </a:solidFill>
              <a:latin typeface="Arial"/>
            </a:endParaRPr>
          </a:p>
        </p:txBody>
      </p:sp>
      <p:pic>
        <p:nvPicPr>
          <p:cNvPr id="92" name="" descr="Image:95Thesen.jpg">
            <a:hlinkClick r:id="rId2"/>
          </p:cNvPr>
          <p:cNvPicPr/>
          <p:nvPr/>
        </p:nvPicPr>
        <p:blipFill>
          <a:blip r:embed="rId3"/>
          <a:stretch/>
        </p:blipFill>
        <p:spPr>
          <a:xfrm>
            <a:off x="838080" y="966960"/>
            <a:ext cx="7467840" cy="573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ther, in the beginning favored maintaining the bishops as an elite class for administrative purposes, though he denied that their succession from the Apostles gave their consecration any special sacramental valu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ile Luther rejected many of the Catholic sacraments, the practice of indulgences, and salvation through both faith and good works (as opposed to the Protestant "faith alone"), he firmly upheld the sacraments of Baptism and the Euchari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Background</a:t>
            </a:r>
            <a:endParaRPr b="0" lang="en-US" sz="4000" spc="-1" strike="noStrike">
              <a:solidFill>
                <a:srgbClr val="99cc00"/>
              </a:solidFill>
              <a:latin typeface="Arial"/>
            </a:endParaRPr>
          </a:p>
        </p:txBody>
      </p:sp>
      <p:sp>
        <p:nvSpPr>
          <p:cNvPr id="9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this first stage of the Reformation, following the excommunication of Luther and condemnation of the Reformation by the Pope, the work and writings of John Calvin were influential in establishing a loose consensus among various groups in Switzerland, Scotland, Hungary, Germany and elsewher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Nader Shehad</cp:lastModifiedBy>
  <dcterms:modified xsi:type="dcterms:W3CDTF">2008-03-08T02:35:51Z</dcterms:modified>
  <cp:revision>58</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