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DBC-A32D-48AA-96D5-72590F83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007-5C54-4FB4-8997-CC63B94E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5A0-45DE-4C18-8795-5A577557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940-DE23-4549-972B-47E835C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249D-C373-43B9-AE68-53DD9144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780E-D0F1-4B50-BBB7-E864271E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4C56-0864-43AB-8B38-8FC61FE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1615-A7B8-4337-B379-BB9D7CB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9C1-07F8-4E5E-872F-385F0F3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27B3-35A4-4E5B-AA27-54B7913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586-EEFC-4CA9-B81A-E06A28D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105-59FD-4F2E-9540-A7863F99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3E29-F8BD-4A3F-A3C3-B7CB47A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6FD-BFEB-464B-A15B-3FF44B6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25D-7F41-459B-B29F-B7C4D2B2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AC81-A37F-4E7C-A5FA-9CCCCB93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92C-801F-4064-9683-803E78FE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75F-E095-4948-97EA-869306F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6A5-E566-4463-AA98-31136B9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645-74EF-44D8-844A-F20848A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FEC-E09F-4DC0-AA71-16DA32E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057-339A-40D1-B4B0-397CE04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FE7-34B3-4A35-AC35-87706867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C54-C818-4D49-8C69-91BC718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4D14-CB73-4DCA-BC31-D9B0BAA2A1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A7C9-9070-4883-8227-E111E7BDEE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. The Epistle of St. Jam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5148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cc66"/>
                </a:solidFill>
                <a:uFillTx/>
                <a:latin typeface="Tahoma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1. Father Tadros Malaty - Bible Study of St. Ja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2. Orthodox Study B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3. William Barclay - The Daily Study Bible S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2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aw of love: do not judge others and do not sh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rtiality to others.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ch and the poor - unjustly judging others is an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xample of a fainthearted faith being manifest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unjust works (2:1-5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God does not show partiality to anyone. Do not sh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rtiality to anyone (2:5-9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aith that Works (2:14-20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is chapter talks about taming the tongu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is chapter is an example of a breakdown of faith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ork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we say reveals what we are: If we can contr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hat we say, we can control what we do.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ntrolling what we say is an example of lack of faith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nd results in lack of works (3:1-12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7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t. James warns against hypocrisy in teaching and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unseling. He warns of the development of a self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entered faith and he notes that self-centered faith wi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anifest itself in self-centered works, and in this case,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e will be helping others in an unhelpful manner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(3:13-18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mentions that a wisdom that is self-seeking do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not descend from above but it is earthly, sensual, and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emonic (3:15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 mentions that the wisdom that's from above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ure, peaceable, gentle, willing to yield, full of merc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nd good fruits, without partiality, and withou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ypocrisy (3:17).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rels in the church are yet another example of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reakdown of faith and works (4:1-10). Such disput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me from desires or passions which bring disruption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he body of Christ. These passions are divisive (4:1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elf-centered (4:3), of this world (4:4), energized b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atan (4:7), and therefore at enmity with God (4:4)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does not answer prayers for our selfish desi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(4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4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. James warns of criticizing others (4:11-12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elittling criticism of others is another way pride is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vealed in our speech. It is a lack of faith united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vil works, an offense both to the person criticized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o Go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lways present the will of God, for you don't kn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hat will happen tomorrow (4:13-14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refore to him who knows to do good and does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o it, to him it is sin (4:1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5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terrible fate of the unjust rich is that their weal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will condemn them (5:1-6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couragement to the oppressed (5:7-12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o not grumble against one another (5:9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severe as did Job - The faithful prophets and sai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are examples for us in how t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patience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(5:10-11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Chapter 5</a:t>
            </a:r>
            <a:br>
              <a:rPr sz="31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role of the Church in healing of the sic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(5:13-20). “Is anyone among you sick? Let hi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all for the elders of the church, and let hi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pray over him, anointing him with oil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name of the Lord. (5:14, Mark 6:13, 16:1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uthor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t. James, James, a bondservant of God and of the Lord Jesus Christ." (1:1) He was one of the twelve disciples. Also known as James the just, James the less, James the brother of Jesus, James the son of Alphaeus (Matthew 10:3). He was the first Bishop of Jerusalem where he presided over the Jerusalem Council (Acts 12:17, 21:17, 15:13). Christ appeared to St. James after His resurrection (1 Cor 15:7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Epistle was writ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ound 55-60 A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ipients of the Epistle: the twelve tribes which are scattered abroad," (1:1). Thus the epistle is not addressed to a particular church or geographical reg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tting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eople James addresses are experiencing various trials: persecution, deception (Chapter 1), economic injustice and poverty (Chapters 1, 2 and 5), apostasy (Chapters 1 and 5) and divisions in the Church (Chapters 3 and 4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 response to these trials, people are tempted b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depression over being snubbed and persecuted by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Jews (Chapters 1 and 5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anger at having their good will being taken advanta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of (Chapters 1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bitterness over being so poor when godless Jew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were so rich (Chapter 2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impatience over the delay in the return of Chri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(Chapter 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plagued most by the sin of hypocrisy - the split between profession and practice, between faith and works which is manifested in distrust, dissension and quarr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rmony of faith and wor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is chapter addresses faith (1:2-18) and works 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(1:19-27)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rials and endurance (1:2-5)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 issue is not trials per se, but our respons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to them. Trials help increase faith (1:3). The godly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reaction to trials is joy, patience and perseveranc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(1:3-4)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importance of wisdom in trials (1:5-11). Wisdom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a gift given to those who ask God in faith (1:5-6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t. James talks about the poor and the rich, and tal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bout the worthlessness of rich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Let no one say when he is tempted, I am tempted b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God," for God cannot be tempted by evil, nor does 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imself tempt anyone (1:13)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emptation originates in our own sinful pass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(1:14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arning against deception - every good gift and e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erfect gift is from above, and comes down from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Father of Lights (1:17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God provides salvation of His own will (1:19)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ing doers not just hearers of the word (1:19-27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Verses 1:26-27 give three examples of the relationship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etween faith and works: (1) mastery over speech, (2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inistry to the needy, (3) moral purity in though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eed.</a:t>
            </a:r>
            <a:br>
              <a:rPr sz="2400"/>
            </a:b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18:23Z</dcterms:created>
  <dc:creator> Fr. Younan</dc:creator>
  <dc:description/>
  <dc:language>en-US</dc:language>
  <cp:lastModifiedBy> Fr. Younan</cp:lastModifiedBy>
  <dcterms:modified xsi:type="dcterms:W3CDTF">2007-09-10T16:50:19Z</dcterms:modified>
  <cp:revision>56</cp:revision>
  <dc:subject/>
  <dc:title>Introduction to the Catholic Epistles</dc:title>
</cp:coreProperties>
</file>