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A77-72D3-4DA5-AECA-0B7A3FB1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F09-8CE0-4355-B19A-1BC11245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37B-143A-4EA9-8E29-B0CD76C8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CA7-773B-49CA-BA6C-379C6104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E60A-A2A1-427A-91C8-F6346216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D090-B958-42F8-A0D6-E8C446AD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A0D8-2165-44EB-9615-F6CACE00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9377-8F4D-47F3-9205-E4C44C9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316D-FAB2-4BFA-8184-6A127D52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7EFB-7A1C-4205-9E55-384C05BD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41C6-C712-4BC8-8D11-F2EF6C29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F82-56AE-416A-97B6-7E6E1591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1667-F68A-42AC-8885-A938C3AA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0FCA-C206-4C4A-B75C-9ED79228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DE85-E2BC-4043-AFD0-992F8C53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53B8-A39F-49F3-88D7-D74793D8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36A8-DC49-40B5-B271-F34EE90B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7EC-130F-49FA-A5DC-239798CD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F88-18FC-4986-86EC-9ADD23C6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814-F496-4C36-BEB3-8B4D67FF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18F-9A22-43F9-B452-33DCFCFD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E87-F003-4C07-A51F-6722080E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835-6151-4BE4-9B47-B64FF404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470-B58D-4948-9AE1-A4F93F2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8BC4-44B7-41A8-9D83-CBCC999B59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3823-A695-436B-B3E1-D384EFA335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roduction to the Book of Revel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6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5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last seven plagues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John’s vision of the over comer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vials of wrath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7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6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 The angels pour out the vials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God’s judgment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first vial boils and sore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second and third vials are blood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fourth vial, fire that would scorch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6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fifth vial, darkness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. The sixth vial, river dried up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. The battle of Armageddon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. The seventh vial, it is done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. The fall of evil power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9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7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woman arrayed in purple and scarlet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The scarlet woman, mother of harlot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mystery Babylo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woman and the beast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rise and fall of kings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War is made against the Lamb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0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8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fall of Babylon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Sin is doomed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God’s people are called out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evil of the world is defeated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kings and merchants are saddened ove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the defeat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fate of the city is given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1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9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marriage of the Lamb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The praising choir in heaven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marriage of the Lamb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rider and the white horse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A great conflict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evil powers are joined together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. The Lamb is victoriou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20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thousand years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Satan is bound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believers are exalted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Satan’s final defeat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last judgm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21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A new heaven and earth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The Holy city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All things are made new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A picture of the holy city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walls, gates, and foundation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pearly gate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. The light of the city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4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22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river and tree of life and the final warnings. B. Paradise is restored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truth of what John has seen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city is always ope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final warning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grace of Christ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hapter 7: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The servants of God and The Sai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are seal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A vision is seen of the redeemed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The white robed sai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9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8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There is silence in heav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The seventh seal is opened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The sounding of the seven trumpet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The first trumpet brings judgments of hail, fire, etc. E. The second trumpet is sounded a Great Mountain 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se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 The third trumpet brings the falling of a great star. G. The fourth trumpet sounds and the sun is smitten, etc. H. The fearful woes are now predict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0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3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9:</a:t>
            </a:r>
            <a:br>
              <a:rPr sz="24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. The fifth angel sounds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B. The fifth trumpet sounds and the abyss is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unlocked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. The locusts are described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D. We see the king of the abyss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. The sixth trumpet sounds loosing the four bound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angels of death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F. The horsemen and the horses are described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G. No repenting is seen even with the judgment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1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0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John is commanded to eat the book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The angel with the book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voices of the seven thunders and th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utterances of them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A fullness of time, no more delay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A closing to the divine pla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John eats the book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1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preaching of the two witnesses.  B. Th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temple is measured on the inside. C. We se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the two witnesse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power of the witnesse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A temporary victory over evil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seventh trumpet sounds with the victory of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Christ’s kingdom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2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woman clothed with the su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The great red drago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A war in heave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Satan is cast out of heave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victory is foretold of God’s kingdom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Satan persecutes the woma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. A demonic spectacle is see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4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hapter 13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The beast with seven heads and ten horns.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The beast is seen rising from the sea.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The dragon is worshipped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War is made against the believers.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 A beast comes up from the ear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5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3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4:</a:t>
            </a:r>
            <a:br>
              <a:rPr sz="24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. Babylon is falling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B. The Lamb is seen and the heavenly chorus heard.  C. Those that follow the Lamb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D. The everlasting gospel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. The evil powers are going to fall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F. There is worship of the beast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G. The wicked will have no rest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. There are two harvest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4:18:23Z</dcterms:created>
  <dc:creator> Fr. Younan</dc:creator>
  <dc:description/>
  <dc:language>en-US</dc:language>
  <cp:lastModifiedBy> Fr. Younan</cp:lastModifiedBy>
  <dcterms:modified xsi:type="dcterms:W3CDTF">2007-09-10T17:13:08Z</dcterms:modified>
  <cp:revision>77</cp:revision>
  <dc:subject/>
  <dc:title>Introduction to the Catholic Epistles</dc:title>
</cp:coreProperties>
</file>