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21E-0CA1-44CB-9862-749BD980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F08-07B7-4CAB-95D0-D5199470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E30-642F-44BF-A37E-D7FDB5DA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890-6E13-4FC2-9227-479BCC93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DF01-1747-4743-A74E-77B2D4F3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D214-4844-4C12-8EE4-F4EC0585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1143-8CF1-4F55-B28A-628C7F21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9C12-6551-4093-907E-4EB5852E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1983-F7AC-4198-80F8-621B57EB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BEE0-83C9-436B-8CE5-DF087BF8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00B5-5C02-4EF4-95DC-4D936660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51F-1D3B-4839-B43F-3C84695A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19E8-5F6C-4A57-B356-B74187AB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ABD5-DC5D-4DE7-A071-A5CA7C8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AB73-2168-483E-9915-5832D59C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0993-F4BC-4A78-A7C0-8BCAB95A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145A-426E-4473-9102-28F591F2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07E-87C9-4316-8E23-226D8B6F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C0E-75C2-49E5-9D56-F5B22969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6F4-A39D-4537-89C8-60A27DCD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473-45D7-4E6E-A511-7E4992C5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720-9695-45A2-A35C-790E5C19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5D2-9C6A-46A6-A6C1-CEFAB07E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4CB-75E8-426B-B432-29201A7E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4B79-673C-4113-9947-2F11B5DC2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2C05-0CF0-4C75-9305-BDE61C835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Pray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13716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ory of Hannah’s Heartfelt 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ne 4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Image Preview"/>
          <p:cNvPicPr/>
          <p:nvPr/>
        </p:nvPicPr>
        <p:blipFill>
          <a:blip r:embed="rId1"/>
          <a:stretch/>
        </p:blipFill>
        <p:spPr>
          <a:xfrm>
            <a:off x="3276720" y="2819520"/>
            <a:ext cx="3051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07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gave Hannah what she desired because she prayed with a sincere heart and strong faith that the Lord would provide her with a 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IS MEAN THAT GOD WILL GIVE US EVERYTHING WE PRAY FOR SINCERELY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38862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07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prayed to the Lord and wept in anguish, then she made a vow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1 Samuel 1:10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51320" y="1828800"/>
            <a:ext cx="17859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00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Old Testament, there was a man named Elkanah who had two w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nnah, the first wife, had children and was very hap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nah, the second wife, didn’t have any children. She was very depressed because of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hy would she be depresse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8800" y="4572000"/>
            <a:ext cx="1901880" cy="1990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52880" y="4495680"/>
            <a:ext cx="20098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07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nnah despised Hannah and Hannah was very bitter towards Perinn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lot of tension between the two women in the house bu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kanah was a very kind-hearted man and didn’t want there to be any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he would try to comfort Hannah all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236196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3657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days that there was a feast, everyone would be so happ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ldren would be running around and playing and the adults would talk to each other and everyone had a great time. Bu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62520" y="1590840"/>
            <a:ext cx="48006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876920" y="456840"/>
            <a:ext cx="3657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nah was always sad and would just cry and weep all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ould go to the Temple and just lift her heart to God and asked for His com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nah was often too sad to speak so she just cried to G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2873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07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, the priest of the Temple, noticed her and how much she cried and thought that she was drunk or something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asked her why she was crying so much and she told him because she wanted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 laughed and told Hannah that she was soon going to have a SON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3280" y="2895480"/>
            <a:ext cx="23972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4953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nah rejoiced immediately and the whole town noticed a change in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ays went by and she finally gave birth to a son and named him Samu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next feast day, she took Samuel to the Temple and he grew up to be a great prophet AND part of the lineage of Jesus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638680" y="152280"/>
            <a:ext cx="3276720" cy="3140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Image Preview"/>
          <p:cNvPicPr/>
          <p:nvPr/>
        </p:nvPicPr>
        <p:blipFill>
          <a:blip r:embed="rId2"/>
          <a:stretch/>
        </p:blipFill>
        <p:spPr>
          <a:xfrm>
            <a:off x="6019920" y="3581280"/>
            <a:ext cx="2315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876920" y="456840"/>
            <a:ext cx="3657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it about Hannah’s prayer that is so import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prayer always have to be the same thing over and ov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should we pr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only one w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26708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3657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yer comes in many different form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he one thing that should be the same for all prayers is that they should all come from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’t be afraid to be vulnerable in front of G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we have to be very honest with ourselves and with God during our pray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95680" y="609480"/>
            <a:ext cx="1165320" cy="1752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77120" y="685800"/>
            <a:ext cx="200484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419720" y="3352680"/>
            <a:ext cx="167148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086600" y="4343400"/>
            <a:ext cx="1401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3:44:37Z</dcterms:created>
  <dc:creator>M Milad </dc:creator>
  <dc:description/>
  <dc:language>en-US</dc:language>
  <cp:lastModifiedBy> </cp:lastModifiedBy>
  <dcterms:modified xsi:type="dcterms:W3CDTF">2006-06-03T14:09:50Z</dcterms:modified>
  <cp:revision>5</cp:revision>
  <dc:subject/>
  <dc:title>Prayer</dc:title>
</cp:coreProperties>
</file>