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20C-2B93-4CAF-A536-AB42CCE5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5DA5-BB57-4B56-A93F-626ED93B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8A2-ADC1-4E29-9146-66588FD8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3CA-D406-405A-B74D-2A299BBE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FAE9-AB91-48F4-B6B8-33FBDD97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889B-37B9-497C-83F6-3381F4D7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8860-5201-4779-AF5D-DF98C7C3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0885-EDF0-41DA-A4E0-D197C345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09B1-FFAF-42B5-9BED-A77DFCF9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F2FA-2FFE-4F5D-9A1C-62E62CF1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6804-F78C-4423-828F-31DAB9CB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522-FB84-4874-BFA2-D521D153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A4CF-6095-4E52-9BAE-6A32CFFD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1356-BE8A-427C-93AF-D84BC61C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65E2-EF02-4C0C-A19D-B9FD7600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2FF4-AE40-4AC4-97F6-603E68E9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1B45-AE3E-4ED4-9E17-910D82DD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CAD-2757-4216-8CC0-C665C48C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4ED-8F0F-4ABC-9905-CF8386C7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BB5-6CBC-4209-935D-732BBCAB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217C-CD65-4685-A8A5-05BE161B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312-1012-4C1B-BB3B-09CFAA05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C6B-B86D-4A68-9934-F061C0F9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24C-ABE3-46F8-8994-8E38DD79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81EF-3C48-4935-8DF5-050EF3E0A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8C69-7E0B-49A7-B649-0F7D881F7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648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CEN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657600" y="914400"/>
            <a:ext cx="23814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er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5791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4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et my prayer be set before You as incense” (Psalms 141:2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00400" y="1143000"/>
            <a:ext cx="2374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Incense and the Cens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uses the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do they me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do the 3 chains represen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does the priest use the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vening raising of incen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rning raising of incen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eparation for the Holy M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5800" y="1036800"/>
            <a:ext cx="305424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y does the priest use incens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ense is a sweet smelling (aroma) as the sweet-smelling life of the saint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ense rises up to heaven as the prayers of saints d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ense spreads everywhere and this refers to the fact that people see the image of Christ in the saints everywher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 we should pray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never we see incen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4120" y="1676520"/>
            <a:ext cx="3133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cense in the Old Testa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4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ense has been used in prayers since the time of Moses and Aar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Aft>
                <a:spcPts val="4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remembers the story of Korah, Dathan and Abira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2865600"/>
            <a:ext cx="2830680" cy="3992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114800" y="304812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 the next day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Aft>
                <a:spcPts val="4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whole congregation rebelled against Moses and Aar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Aft>
                <a:spcPts val="4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Lord sent an epidemic and more than fourteen thousand people di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Aft>
                <a:spcPts val="4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ses ordered Aaron to put fire coal in the incense and raise incense. As soon as incense rose, the epidemic stop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Aft>
                <a:spcPts val="4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people thanked the Lord, as the prayers accompanied by incense were powerful. They promised never to rebel agai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cense is in Heav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4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in heaven, the Lord Jesus is sitting on the Throne surrounded by twenty-four priests carrying censers filled with incense, which is the prayers of the sain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Aft>
                <a:spcPts val="4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is why David says: “Let my prayer be set before You as incense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3386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we see the incense in the church, let our prayers go up with them so that the Lord may accept them as sweet-smelling incense with the prayers of the sain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8120" y="2666880"/>
            <a:ext cx="292392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do the incense and censer represe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does the priest use the cens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ense is a sweet smelling (aroma) as the sweet-smelling life of the ________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ense rises up to heaven as the ____ of saints 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ense spreads everywhere and this refers to the fact that people see the image of ____ in the ____ everyw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ense is the symbol of (reading the Bible -prayers -love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were the 3 people who rebelled against Moses and Aaron? How did they rebe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 (Cont’d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people raised incense with the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happened to the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id the congregation do on the next d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happened to them? How many di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happened when Aaron raised the incens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the 24 priests surrounding Christ in heaven carrying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hould we do whenever we see incens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16:50:18Z</dcterms:created>
  <dc:creator>Mina Hanna</dc:creator>
  <dc:description/>
  <dc:language>en-US</dc:language>
  <cp:lastModifiedBy>Mina Hanna</cp:lastModifiedBy>
  <dcterms:modified xsi:type="dcterms:W3CDTF">2006-06-17T20:57:30Z</dcterms:modified>
  <cp:revision>15</cp:revision>
  <dc:subject/>
  <dc:title>INCENSE</dc:title>
</cp:coreProperties>
</file>