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41F9-4B54-4F61-A11A-6B138CB01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2202-06BE-4E31-93C5-F972D2AEB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F545-77F3-4A59-B60F-B23015764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3E46-B5F5-48DB-83F2-B3854F3EE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B3342-D8A1-487C-829E-55866CF6A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A304B-198C-4F70-A552-DAF6BE538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5EF2A-09D6-4E4D-9080-FEB1BCC97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EC678-879C-4E02-B685-4A7C0F314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FE59E-AFF7-4EE8-B46C-9B69B11C4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9EAF4-AF58-4CD4-9D0B-ED4F57465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F9B68-4DCE-47CD-B7F1-3716C949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FEE0-A073-41B2-B165-82690F2A2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AFECC-04D6-493F-B492-D777E18D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40F13-81E9-4929-83C0-881E325FA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FBF36-4880-4632-9E13-7DF0765FB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DD7AF-8482-4E89-B5B2-8B4286423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356A8-4E4B-44D6-95FA-1A41A6486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E905-5D27-4C15-A3FA-206B4A323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3BE3-59A1-4229-BF14-747BB9BAD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DF3A-C515-4525-9A89-4AD4C8C82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5962-18F4-481B-861E-06BA51D8C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E79D-35E2-4794-AA31-288B147C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F853-00A9-44C6-B921-C3924AE36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D29C-41E8-40BE-8733-A3E9DB23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9381B-269E-4BFE-9F56-507941DF76E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E1971-6770-47C4-B14A-B64439E7DF4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etroactive.com/papers/sonoma/05.09.02/gifs/undergroundzero-0219.jpg&amp;imgrefurl=http://www.metroactive.com/papers/sonoma/05.09.02/undergroundzero-0219.html&amp;h=251&amp;w=350&amp;sz=23&amp;tbnid=hfFekJgZElxSJM:&amp;tbnh=83&amp;tbnw=116&amp;hl=en&amp;start=2&amp;prev=/images%3Fq%3Dchildren%2Bpraying%26svnum%3D10%26hl%3Den%26lr%3D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s.google.com/imgres?imgurl=http://jimmyakin.typepad.com/photos/uncategorized/child_praying_1.jpg&amp;imgrefurl=http://www.jimmyakin.org/curios_humor/&amp;h=249&amp;w=200&amp;sz=31&amp;tbnid=WXkQ7FehKKs1nM:&amp;tbnh=106&amp;tbnw=85&amp;hl=en&amp;start=1&amp;prev=/images%3Fq%3Dchildren%2Bpraying%26svnum%3D10%26hl%3Den%26lr%3D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images.google.com/imgres?imgurl=http://www.mste.uiuc.edu/courses/ci235sp03/folders/dunleavy/praying%2520children.jpg&amp;imgrefurl=http://www.mste.uiuc.edu/courses/ci235sp03/folders/dunleavy/&amp;h=497&amp;w=368&amp;sz=27&amp;tbnid=AliuNrD_-6DkMM:&amp;tbnh=127&amp;tbnw=94&amp;hl=en&amp;start=4&amp;prev=/images%3Fq%3Dchildren%2Bpraying%26svnum%3D10%26hl%3Den%26lr%3D" TargetMode="External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globosapiens.net/data/reportpix/thumb/cairo-report-1729-5.jpg&amp;imgrefurl=http://www.globosapiens.net/gloriajames-travelogue/Cairo.html&amp;h=240&amp;w=180&amp;sz=10&amp;tbnid=TH-jfEkOxXVgeM:&amp;tbnh=104&amp;tbnw=78&amp;hl=en&amp;start=4&amp;prev=/images%3Fq%3Dcoptic%2Bchurch%26svnum%3D10%26hl%3Den%26lr%3D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Eli the Priest and His Son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ch 19, 200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Vers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house shall be called a house of prayer for all the nations.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Mark 11:1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43880" y="4800600"/>
            <a:ext cx="2400120" cy="17175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2054160" cy="2562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914400" y="3581280"/>
            <a:ext cx="24256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04920" y="304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of the places that the Lord insists on keeping pure and holy is His Ho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Old Testament, there was a priest named </a:t>
            </a: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El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ho served in the tem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had two sons, </a:t>
            </a: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Hophn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Phinea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who helped him serv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105520" y="3173400"/>
            <a:ext cx="403848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80520" y="380880"/>
            <a:ext cx="44960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the people needed to offer sacrifices in the temple, the priest, Eli, would sanctify himself and follow a certain order for offering them to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ever, Hophni and Phineas were </a:t>
            </a: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wick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en who sinned in the House of the L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029200" y="457200"/>
            <a:ext cx="37512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0" y="380880"/>
            <a:ext cx="4572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did evil things and people called them </a:t>
            </a: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scoundr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paid no attention to the </a:t>
            </a: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Lor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to the </a:t>
            </a: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rul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r to </a:t>
            </a: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regul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eople of the temple were very annoyed with them and murmured against them. Many of them hated the </a:t>
            </a: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Holy Pla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ecause of them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44956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04920" y="304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ord heard the people’s complaints and saw the evil dee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immediately ordered Eli to </a:t>
            </a: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rebuk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Eli went to his sons and gently warned them not to do it ag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this </a:t>
            </a: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anger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Lord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133720" y="3543480"/>
            <a:ext cx="563868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this time, a little boy named </a:t>
            </a: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Samue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as in the temple and the Lord appeared to hi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told Samuel that he was going to kill Eli and his sons for the sins they have commit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i knew what the judgment of the Lord was going to be and he was very s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752480" y="3309840"/>
            <a:ext cx="6019920" cy="25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-360" y="685800"/>
            <a:ext cx="56386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on, there was a </a:t>
            </a: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great wa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the land and Hophni and Phineas died in batt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only that, but the Israelites were defeated AND the enemies took the </a:t>
            </a: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Ark of Coven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their father, Eli, heard of this, he was so shocked from the news that he fell and died immediate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810400" y="1371600"/>
            <a:ext cx="333360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hat can we learn from this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Lord’s temple is a Holy Place and we should treat it with </a:t>
            </a: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resp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eying the rules of the House of God is not only pleasing to the elders of the church but to God Himsel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ose who do not obey the regulations disappoint the Lord and should be punish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943600" y="3325680"/>
            <a:ext cx="2852640" cy="35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981080" y="609120"/>
            <a:ext cx="472464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ing disrespectful of the House of God ruins prayer and worship for those who are </a:t>
            </a: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disobedie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for those that are around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need to follow all of the directions that are given to us inside of the Church in order to learn how to pray and act in front of the L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04920"/>
            <a:ext cx="2200320" cy="2933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6477120" y="4267080"/>
            <a:ext cx="266688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9T12:30:43Z</dcterms:created>
  <dc:creator>M Milad </dc:creator>
  <dc:description/>
  <dc:language>en-US</dc:language>
  <cp:lastModifiedBy> </cp:lastModifiedBy>
  <dcterms:modified xsi:type="dcterms:W3CDTF">2006-03-24T12:29:50Z</dcterms:modified>
  <cp:revision>12</cp:revision>
  <dc:subject/>
  <dc:title>Eli the Priest and His Sons</dc:title>
</cp:coreProperties>
</file>