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DE5-EDCC-4BC6-A877-462B61A2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F8A-B67F-4242-A843-D6975FA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243-6A1B-47D4-A3F7-D57AEB38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039-3302-41B3-A9E0-F63697F2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BC0-7150-4FDE-9BC6-085DD96B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54F-9690-4E33-879B-8F6199C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B1C9-9425-4894-B36D-D378B298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914-EDE3-4B63-A89C-3228D5F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8B91-DA93-4A23-83AE-66447F7B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1CE2-490F-4B97-98D5-8BD8C5B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6EBC-E82F-4F45-915E-F80E103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7B0-1535-4D20-9D0C-313CCD3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1E21-AA25-41ED-AD32-9546669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C30-8879-463C-975C-3904D18C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9ED1-C845-4182-9D5E-4484361F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64BF-3799-429A-8A85-4DB233D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DCD-E4A3-486D-AFFB-FBB90971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0E6-46B8-42FF-BECF-15C7260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57A-8FDB-4ED7-B7BF-D3020D1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4A0-05DF-433E-94AC-9C75777A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3B5-06F6-4971-A862-FEFA1C3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5B8-A6FA-4A18-98E5-6E4AC555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6B7-8E8F-422D-B04B-F8150409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303-3F95-464A-9BF4-EC86C9C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CEC-B04F-4C07-A837-C335B87324A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A44-61F2-4CED-AC4F-B4F59A75749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St. John the Apostle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598176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nday, May 14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des 4-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286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onclusion</a:t>
            </a: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010280" cy="4419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the Beloved was a model of prayer and contemp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earned all these things because he was always closer to Jesus’ s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e as Christians move clo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Jesus’ side and test His lo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3760" y="2057400"/>
            <a:ext cx="3809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9" name="" descr="Image Preview"/>
          <p:cNvPicPr/>
          <p:nvPr/>
        </p:nvPicPr>
        <p:blipFill>
          <a:blip r:embed="rId3"/>
          <a:stretch/>
        </p:blipFill>
        <p:spPr>
          <a:xfrm>
            <a:off x="6172200" y="350532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Memory Verse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afraid, I am the first and the la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Revelation 1:1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Image Preview"/>
          <p:cNvPicPr/>
          <p:nvPr/>
        </p:nvPicPr>
        <p:blipFill>
          <a:blip r:embed="rId2"/>
          <a:stretch/>
        </p:blipFill>
        <p:spPr>
          <a:xfrm>
            <a:off x="5410080" y="2438280"/>
            <a:ext cx="340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St. John the Apostle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72464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hn the beloved was a fisherman in Galil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brother was James son of Zebed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were called “sons of thunder” (Mark 3:17). They left their father, their servants and all their wealth to follow Jesus. They met Jesus on the sea where they had caught large amounts of fi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Image Preview"/>
          <p:cNvPicPr/>
          <p:nvPr/>
        </p:nvPicPr>
        <p:blipFill>
          <a:blip r:embed="rId2"/>
          <a:stretch/>
        </p:blipFill>
        <p:spPr>
          <a:xfrm>
            <a:off x="5334120" y="19051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llowed Jesus Christ and became his discip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liked to lie on Jesus’ bosom, as he loved Christ very mu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6553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lked with him on his journeys, services, and saw all HIS miraculous acts, heard his teachings and held fast to His discipleship in spite of the Jews persecution to Chri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388620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Jesus was crucified, he stood under the cro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took Jesus’ mother, Mary with him after His death on the cro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w the Resurrection and Ascension of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began his service and leadership in Palestine and then in Asia Min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ved until he was 100yrs 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apostles had been martyred, so he became the only Bishop in the world who saw Christ at that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en heresies spread, and when John saw that they were against the Divinity of Christ, he wr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spel of St. Joh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3 epist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Joh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Joh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Joh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were written to his Christian children as models of excellent servant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Sacrifices</a:t>
            </a:r>
            <a:endParaRPr b="0" lang="en-US" sz="44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848360" cy="3962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loved Christ very much, but like many in that time that loved Christ, were tormented and tortured for their christian beliefs, as was Joh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eror Domitian laid him in boiling oil in 96 A.D. Then sent him into exile on the island of Patm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Image Preview"/>
          <p:cNvPicPr/>
          <p:nvPr/>
        </p:nvPicPr>
        <p:blipFill>
          <a:blip r:embed="rId2"/>
          <a:stretch/>
        </p:blipFill>
        <p:spPr>
          <a:xfrm>
            <a:off x="4191120" y="3962520"/>
            <a:ext cx="37494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505320" y="2666520"/>
            <a:ext cx="541008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the Lord was with him in exile and He granted him the eternal reve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Revelation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6040" y="46080"/>
            <a:ext cx="299412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15:40Z</dcterms:created>
  <dc:creator>Mary/Ghoubrial</dc:creator>
  <dc:description/>
  <dc:language>en-US</dc:language>
  <cp:lastModifiedBy> </cp:lastModifiedBy>
  <dcterms:modified xsi:type="dcterms:W3CDTF">2006-05-13T09:55:50Z</dcterms:modified>
  <cp:revision>6</cp:revision>
  <dc:subject/>
  <dc:title>St. John the Apostle</dc:title>
</cp:coreProperties>
</file>