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10.wmf" ContentType="image/x-wmf"/>
  <Override PartName="/ppt/media/image3.png" ContentType="image/png"/>
  <Override PartName="/ppt/media/image4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49E-89B0-487B-B39D-9079311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CAC-BA3F-4497-9AA6-0C87789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8C0-ACBD-405F-B9B4-0912B203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D53-0BFD-4A40-8A1D-4D7AC0DA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F2E-815F-4D86-AD43-DC0F2414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D8B-FD70-4DF4-B965-ECEF5F6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681F-4CA3-462C-B755-502716E0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E9F1-878D-48CF-8337-E7FB9DE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05D-C8C9-4328-9A38-5A0930D5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C84D-E169-46A0-B356-18D9DC22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6609-99F1-401A-AE85-225F9F3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5EE-91C3-43D3-B1BC-04345E7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9E6-091F-4315-891D-5016A169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FB63-5D7B-4F10-8FEF-4768F1F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94CB-5297-4F16-A764-B4AD7E78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E579-3775-48A4-9F48-0F9B711B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57A6-82FF-4EB6-86D6-F0D4B648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B8B-EC93-419F-9A78-F8C745F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758-8B1D-45F1-A9AD-160EF55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DFE-DA9E-45B6-8D49-98CF583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BC2-715F-42FB-A8AF-9E4FE8F0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578-1FCA-4400-A28E-8A55A26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D86-0477-4DF1-801D-2D3E281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585-213F-4C43-8616-D17D10F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F0B5-1320-4FDD-AB2B-F76B1EDAEA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3340-1C9F-489F-806E-EE581086E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Keeping the Sabbath Ho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pril 30, 200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very important to remember to keep the Sabbath day ho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Image Preview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Memory Vers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3276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oper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oper Black"/>
              </a:rPr>
              <a:t>Remember the Sabbath, to keep it Holy.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oper Black"/>
              </a:rPr>
              <a:t>- Exodus 20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One day while the Israelites were wandering through the wilderness, one of the men started gathering firewood on the Sabb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ly, he was taken to Moses, Aaron and the whole community because they did not know what to do with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1320" y="1905120"/>
            <a:ext cx="3113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put under watch because it was not clear what was to be done with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But, the Lord soon said to Moses, “The man must be put to death. The whole community is to stone him to death outside of the cam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Image Preview"/>
          <p:cNvPicPr/>
          <p:nvPr/>
        </p:nvPicPr>
        <p:blipFill>
          <a:blip r:embed="rId2"/>
          <a:stretch/>
        </p:blipFill>
        <p:spPr>
          <a:xfrm>
            <a:off x="4952880" y="1143000"/>
            <a:ext cx="3829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o, the whole community took him outside of the camp and stoned the man until he died, just as the Lord had comman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t that the man did that was so terrible that he had to DIE for it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gathering firewood is not that big of a deal, the problem was that he was doing it on the Sabbat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 Sabbath day is a day in which we are supposed to rest and just contemplate on the Lord and His greatnes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705480" cy="3468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busy ourselves with other activities and other people we are telling the Lord that we don’t have time to spend with Him even one day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Lord rested on the seventh day after He finished His creation and we, too, should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lived in the Old Testament, how many times would we be punished for not “keeping the Sabbath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et the devil convince you on Sunday mornings that you should sleep in instead of go to church!! FIGHT HI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ry not to talk so much or argue so much with people around you in respect of this holy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just because the Sabbath day is holy, doesn’t mean you’re allowed to misbehave on every other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e Sabbath day is just an extra special day that the Lord asked us to obser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Litu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ake Comm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Read a spiritual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pend quiet time with ourselves or with our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524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, how do we keep the Sabbath holy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86600" y="1143000"/>
            <a:ext cx="1343160" cy="1806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1676520" cy="1673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96120" y="3200400"/>
            <a:ext cx="184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t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elp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o the nee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Help parents out with things around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9524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ther things we could do ar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2743200" cy="2498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3557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4:18:21Z</dcterms:created>
  <dc:creator>M Milad </dc:creator>
  <dc:description/>
  <dc:language>en-US</dc:language>
  <cp:lastModifiedBy> </cp:lastModifiedBy>
  <dcterms:modified xsi:type="dcterms:W3CDTF">2006-04-30T12:01:35Z</dcterms:modified>
  <cp:revision>19</cp:revision>
  <dc:subject/>
  <dc:title>Keeping the Sabbath Holy</dc:title>
</cp:coreProperties>
</file>