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5.png" ContentType="image/png"/>
  <Override PartName="/ppt/media/image8.jpeg" ContentType="image/jpeg"/>
  <Override PartName="/ppt/media/image11.wmf" ContentType="image/x-wmf"/>
  <Override PartName="/ppt/media/image3.png" ContentType="image/png"/>
  <Override PartName="/ppt/media/image17.jpeg" ContentType="image/jpeg"/>
  <Override PartName="/ppt/media/image9.gif" ContentType="image/gif"/>
  <Override PartName="/ppt/media/image12.jpeg" ContentType="image/jpeg"/>
  <Override PartName="/ppt/media/image10.wmf" ContentType="image/x-wmf"/>
  <Override PartName="/ppt/media/image2.png" ContentType="image/png"/>
  <Override PartName="/ppt/media/image25.jpeg" ContentType="image/jpeg"/>
  <Override PartName="/ppt/media/image7.jpeg" ContentType="image/jpeg"/>
  <Override PartName="/ppt/media/image23.png" ContentType="image/png"/>
  <Override PartName="/ppt/media/image22.jpeg" ContentType="image/jpeg"/>
  <Override PartName="/ppt/media/image21.jpeg" ContentType="image/jpeg"/>
  <Override PartName="/ppt/media/image16.jpeg" ContentType="image/jpeg"/>
  <Override PartName="/ppt/media/image20.wmf" ContentType="image/x-wmf"/>
  <Override PartName="/ppt/media/image4.png" ContentType="image/png"/>
  <Override PartName="/ppt/media/image19.jpeg" ContentType="image/jpeg"/>
  <Override PartName="/ppt/media/image18.jpeg" ContentType="image/jpeg"/>
  <Override PartName="/ppt/media/image15.jpeg" ContentType="image/jpeg"/>
  <Override PartName="/ppt/media/image14.jpeg" ContentType="image/jpeg"/>
  <Override PartName="/ppt/media/image1.wmf" ContentType="image/x-wmf"/>
  <Override PartName="/ppt/media/image24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7CBBB-5799-4ACA-9F60-63C80FD92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111D8-860A-4981-A0AD-2AC7FC4F5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68C51-FFB3-4D56-959C-38E399A76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AE0BE-2031-4F7D-ABCB-AC3B1C540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B2564-B362-46B1-9451-B4DE6692C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166F4-8438-4E9F-9EE1-25B108F40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DB6A5-AF3C-4279-AC4A-00F191543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D576E-AD7A-49BC-B0B2-4A8D623B1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350AB-CC2E-4D60-8814-65FC9E65F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7A65D-A9F4-4115-9491-3269DCD90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B6860-8034-43D4-9542-57FA614B9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F348D-5B4F-4BAF-9DC6-B72CDD0EF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95A58-A0D2-46A5-86AD-EAA248516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45D79-8E8A-4116-87B0-071BD7D1B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1DEFD-E897-49B9-BABD-461162B5E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5F277-FC4B-4EE9-B88F-B99E22446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E6EF9-FDA9-4CFB-97C7-5C8FF6C9E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B2AA2-D5B9-4DFA-A5E6-D4D8BF7D9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1074F-2A15-44FA-A613-3E6321F86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9D7B2-34FF-460A-BBF0-43E0BF21C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82621-6139-4DD8-B24C-C2EC24723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DBFD4-724C-47F1-99A0-05E7BA366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3AB6D-2AF7-460C-9935-1EF038E5F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3C627-E1C6-4C27-8668-B034395AE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4c2a"/>
            </a:gs>
            <a:gs pos="100000">
              <a:srgbClr val="13a55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B73C9-8740-4ED9-8F26-6A2C46EC30D4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4c2a"/>
            </a:gs>
            <a:gs pos="100000">
              <a:srgbClr val="13a55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49611-72FA-49B6-B6FF-5BA2EABF40F4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f1311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f131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22.jpe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image" Target="../media/image23.png"/><Relationship Id="rId5" Type="http://schemas.openxmlformats.org/officeDocument/2006/relationships/image" Target="../media/image24.wmf"/><Relationship Id="rId6" Type="http://schemas.openxmlformats.org/officeDocument/2006/relationships/image" Target="../media/image24.wmf"/><Relationship Id="rId7" Type="http://schemas.openxmlformats.org/officeDocument/2006/relationships/image" Target="../media/image24.wmf"/><Relationship Id="rId8" Type="http://schemas.openxmlformats.org/officeDocument/2006/relationships/image" Target="../media/image24.wmf"/><Relationship Id="rId9" Type="http://schemas.openxmlformats.org/officeDocument/2006/relationships/image" Target="../media/image24.wmf"/><Relationship Id="rId10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gif"/><Relationship Id="rId4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10.wmf"/><Relationship Id="rId5" Type="http://schemas.openxmlformats.org/officeDocument/2006/relationships/image" Target="../media/image11.wmf"/><Relationship Id="rId6" Type="http://schemas.openxmlformats.org/officeDocument/2006/relationships/hyperlink" Target="http://rds.yahoo.com/S=96062857/K=The+ten+virgins/v=2/SID=w/l=II/R=1/SS=i/OID=ac7c2384ab3aaeea/SIG=1d328dklq/EXP=1134345431/*-http%3A//images.search.yahoo.com/search/images/view?back=http%3A%2F%2Fimages.search.yahoo.com%2Fsearch%2Fimages%3Fp%3DThe%2Bten%2Bvirgins%26ei%3DUTF-8%26fr%3Dybr_sbc&amp;w=260&amp;h=172&amp;imgurl=www.propheticrevelation.com%2Ften_virgins%2Flampstill.jpg&amp;rurl=http%3A%2F%2Fwww.propheticrevelation.com%2Ften_virgins%2Ften_virgins2.htm&amp;size=15.4kB&amp;name=lampstill.jpg&amp;p=The+ten+virgins&amp;type=jpeg&amp;no=1&amp;tt=128&amp;ei=UTF-8" TargetMode="External"/><Relationship Id="rId7" Type="http://schemas.openxmlformats.org/officeDocument/2006/relationships/image" Target="../media/image12.jpe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13.wmf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19.jpeg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4c2a"/>
            </a:gs>
            <a:gs pos="100000">
              <a:srgbClr val="13a55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69608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The Parable of the Ten Virgins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685800" y="5334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December 10, 2005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2438280" y="1752480"/>
            <a:ext cx="2943360" cy="33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4c2a"/>
            </a:gs>
            <a:gs pos="100000">
              <a:srgbClr val="13a55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228240" y="1523520"/>
            <a:ext cx="36162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Who were the five wise virgins?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Who were the five foolish virgins?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Who was the Bridegroom?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What did the oil in the virgins’ lamps represent?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What does the church represent? (The place where the wedding party was.)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What does the “shut door” symbolize?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7"/>
          <a:stretch/>
        </p:blipFill>
        <p:spPr>
          <a:xfrm>
            <a:off x="4114800" y="1295280"/>
            <a:ext cx="36576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4c2a"/>
            </a:gs>
            <a:gs pos="100000">
              <a:srgbClr val="13a55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0" y="1142640"/>
            <a:ext cx="73864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What is it that we can learn from the Lord’s parable?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We do not know when the Lord is coming again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We should always be prepared because of this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We need to keep our </a:t>
            </a:r>
            <a:r>
              <a:rPr b="1" lang="en-US" sz="2800" spc="-1" strike="noStrike">
                <a:solidFill>
                  <a:srgbClr val="2f1311"/>
                </a:solidFill>
                <a:latin typeface="Arial"/>
              </a:rPr>
              <a:t>spiritual lamps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 filled with the </a:t>
            </a:r>
            <a:r>
              <a:rPr b="1" lang="en-US" sz="2800" spc="-1" strike="noStrike">
                <a:solidFill>
                  <a:srgbClr val="2f1311"/>
                </a:solidFill>
                <a:latin typeface="Arial"/>
              </a:rPr>
              <a:t>oil of good works and faith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5"/>
          <a:stretch/>
        </p:blipFill>
        <p:spPr>
          <a:xfrm>
            <a:off x="6248520" y="5334120"/>
            <a:ext cx="992160" cy="90468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6"/>
          <a:stretch/>
        </p:blipFill>
        <p:spPr>
          <a:xfrm>
            <a:off x="4800600" y="5334120"/>
            <a:ext cx="992160" cy="90468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7"/>
          <a:stretch/>
        </p:blipFill>
        <p:spPr>
          <a:xfrm>
            <a:off x="3352680" y="5334120"/>
            <a:ext cx="992160" cy="90468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8"/>
          <a:stretch/>
        </p:blipFill>
        <p:spPr>
          <a:xfrm>
            <a:off x="1828800" y="5334120"/>
            <a:ext cx="992160" cy="90468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9"/>
          <a:stretch/>
        </p:blipFill>
        <p:spPr>
          <a:xfrm>
            <a:off x="380880" y="5334120"/>
            <a:ext cx="992160" cy="90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4c2a"/>
            </a:gs>
            <a:gs pos="100000">
              <a:srgbClr val="13a55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onclusion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04560" y="1142640"/>
            <a:ext cx="72039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1311"/>
                </a:solidFill>
                <a:latin typeface="Arial"/>
              </a:rPr>
              <a:t>No one knows when we will meet the Lord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 (Just like the virgins didn’t know when the bridegroom was coming)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1311"/>
                </a:solidFill>
                <a:latin typeface="Arial"/>
              </a:rPr>
              <a:t>We have to be awake and careful of our spiritual life so that we may be ready to enter into Heaven with the Lord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 (The foolish virgins were not allowed into the church because they were not ready)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1311"/>
                </a:solidFill>
                <a:latin typeface="Arial"/>
              </a:rPr>
              <a:t>When the Lord does come, we want Him to know us and for us to know Him well also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 (The bridegroom told the foolish virgins that he did not know them)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4c2a"/>
            </a:gs>
            <a:gs pos="100000">
              <a:srgbClr val="13a55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6867720" cy="6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Memory Verse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28600" y="53352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Behold the bridegroom is coming; go out to meet Him.”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- Matthew 25:6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990720" y="2209680"/>
            <a:ext cx="6019560" cy="45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4c2a"/>
            </a:gs>
            <a:gs pos="100000">
              <a:srgbClr val="13a55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0" y="609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2f13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What are the names of the stories that Jesus used to tell to people?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2f13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A parable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2f13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What is a parable?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2f13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Well, one of the parables that Jesus told was about these ten young virgins (women) who were invited to a wedding party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2f13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Back in Jesus’ time, during a wedding party, there usually would be ten virgins who would walk the bridegroom into the church with lamps in their hand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2f13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2209680" y="4876920"/>
            <a:ext cx="5238720" cy="1752480"/>
            <a:chOff x="2209680" y="4876920"/>
            <a:chExt cx="5238720" cy="1752480"/>
          </a:xfrm>
        </p:grpSpPr>
        <p:pic>
          <p:nvPicPr>
            <p:cNvPr id="197" name="" descr=""/>
            <p:cNvPicPr/>
            <p:nvPr/>
          </p:nvPicPr>
          <p:blipFill>
            <a:blip r:embed="rId1"/>
            <a:stretch/>
          </p:blipFill>
          <p:spPr>
            <a:xfrm>
              <a:off x="5873760" y="4876920"/>
              <a:ext cx="1574640" cy="175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" descr=""/>
            <p:cNvPicPr/>
            <p:nvPr/>
          </p:nvPicPr>
          <p:blipFill>
            <a:blip r:embed="rId2"/>
            <a:stretch/>
          </p:blipFill>
          <p:spPr>
            <a:xfrm>
              <a:off x="2209680" y="4876920"/>
              <a:ext cx="1578240" cy="167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9" name="" descr=""/>
            <p:cNvPicPr/>
            <p:nvPr/>
          </p:nvPicPr>
          <p:blipFill>
            <a:blip r:embed="rId3"/>
            <a:stretch/>
          </p:blipFill>
          <p:spPr>
            <a:xfrm>
              <a:off x="4343400" y="5105520"/>
              <a:ext cx="1171440" cy="11620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4c2a"/>
            </a:gs>
            <a:gs pos="100000">
              <a:srgbClr val="13a55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33160" y="761760"/>
            <a:ext cx="674676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The ten virgins took their lamps and went to the place where the marriage feast would take place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They waited outside for the bridegroom to arrive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The five foolish virgins did not bring any oil for their lamps but the five wise ones brought flasks of oil with them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4"/>
          <a:stretch/>
        </p:blipFill>
        <p:spPr>
          <a:xfrm>
            <a:off x="3276720" y="4419720"/>
            <a:ext cx="1149120" cy="195264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5"/>
          <a:stretch/>
        </p:blipFill>
        <p:spPr>
          <a:xfrm>
            <a:off x="1066680" y="4343400"/>
            <a:ext cx="1406520" cy="18432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Go to fullsize image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5334120" y="4876920"/>
            <a:ext cx="167616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4c2a"/>
            </a:gs>
            <a:gs pos="100000">
              <a:srgbClr val="13a55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28600" y="533520"/>
            <a:ext cx="49528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Why were they called foolish and wise?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e foolish and the wise virgins waited for the Bridegroom to arrive but He was delayed to the wedding party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So the ten virgins fell asleep while they waited for the Bridegroom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All of the sudden, there was a cry, “Behold the Bridegroom!! Come out to meet Him!”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5"/>
          <a:stretch/>
        </p:blipFill>
        <p:spPr>
          <a:xfrm>
            <a:off x="5943600" y="3809880"/>
            <a:ext cx="1162080" cy="190512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Image Preview"/>
          <p:cNvPicPr/>
          <p:nvPr/>
        </p:nvPicPr>
        <p:blipFill>
          <a:blip r:embed="rId6"/>
          <a:stretch/>
        </p:blipFill>
        <p:spPr>
          <a:xfrm>
            <a:off x="5486400" y="685800"/>
            <a:ext cx="220968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4c2a"/>
            </a:gs>
            <a:gs pos="100000">
              <a:srgbClr val="13a55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0" y="380880"/>
            <a:ext cx="7386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o all of the virgins quickly woke up and immediately got their lamps ready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The foolish virgins looked at their lamps and realized that they were going out!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o they asked the wise virgins, “Give us some of your oil for our lamps are going out!”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4"/>
          <a:stretch/>
        </p:blipFill>
        <p:spPr>
          <a:xfrm>
            <a:off x="1295280" y="3352680"/>
            <a:ext cx="60199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4c2a"/>
            </a:gs>
            <a:gs pos="100000">
              <a:srgbClr val="13a55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1620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The wise virgins responded and said, “Perhaps there will not be enough for us and for you. Go to the store instead and by yourselves some oil.”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5065560" y="1598760"/>
            <a:ext cx="1549440" cy="217152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3"/>
          <a:stretch/>
        </p:blipFill>
        <p:spPr>
          <a:xfrm>
            <a:off x="4210200" y="3922560"/>
            <a:ext cx="3260520" cy="217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4c2a"/>
            </a:gs>
            <a:gs pos="100000">
              <a:srgbClr val="13a55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380520" y="685800"/>
            <a:ext cx="6899400" cy="33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8000"/>
          </a:bodyPr>
          <a:p>
            <a:pPr marL="233280" indent="-2332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Unfortunately, while they went to buy the oil, the bridegroom came and all those who were ready went inside with him and the door was shut…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233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233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233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233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233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233280" indent="-2332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The foolish virgins came later and yelled, “Lord! Lord! Open for us!”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3"/>
          <a:stretch/>
        </p:blipFill>
        <p:spPr>
          <a:xfrm>
            <a:off x="1447920" y="2743200"/>
            <a:ext cx="4952880" cy="22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4c2a"/>
            </a:gs>
            <a:gs pos="100000">
              <a:srgbClr val="13a55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42321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But the bridegroom replied and said, “Truly, I say to you, I do not know you.”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After finishing the story, Jesus told the people this: “Watch therefore, for you do not know neither the day nor the hour in which I am coming…”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3"/>
          <a:stretch/>
        </p:blipFill>
        <p:spPr>
          <a:xfrm>
            <a:off x="5562720" y="914400"/>
            <a:ext cx="1549440" cy="217188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4"/>
          <a:stretch/>
        </p:blipFill>
        <p:spPr>
          <a:xfrm>
            <a:off x="5029200" y="3886200"/>
            <a:ext cx="19177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4c2a"/>
            </a:gs>
            <a:gs pos="100000">
              <a:srgbClr val="13a55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1620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What do you think He meant when He said that?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Let’s think…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3"/>
          <a:stretch/>
        </p:blipFill>
        <p:spPr>
          <a:xfrm>
            <a:off x="3505320" y="2590920"/>
            <a:ext cx="365760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0T13:59:43Z</dcterms:created>
  <dc:creator>M Milad </dc:creator>
  <dc:description/>
  <dc:language>en-US</dc:language>
  <cp:lastModifiedBy> </cp:lastModifiedBy>
  <dcterms:modified xsi:type="dcterms:W3CDTF">2005-12-11T00:19:02Z</dcterms:modified>
  <cp:revision>7</cp:revision>
  <dc:subject/>
  <dc:title>The Parable of the Ten Virgins</dc:title>
</cp:coreProperties>
</file>