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28CD-6C54-4DB2-8E16-942EC8E3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3BF1-2226-40CD-A64B-6E3EC45E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8CEC-59C7-48FA-9664-1E703120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8AEA-9248-4F77-8C18-801DD49D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B5179-F112-4017-929D-5BB6242D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17C52-22D5-43DF-ACDA-7322537A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83B28-D002-4CE1-AA17-39742013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CE1D9-FDEF-4C47-961D-A1AD245A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AF530-18E5-4386-B40B-0AB8969A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B2E2A-E8AA-495E-92EA-B4911909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ABC54-11C4-4E1E-B563-B493C0A5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4CE-E832-4CCE-AC86-060264F9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EC1A4-182E-4CE7-997C-2072A2E1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1B955-D40F-469E-A6E9-77B08413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9F46C-4E73-4679-92A0-586C2545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4D004-AEA6-4A49-849D-88FFE857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9A24F-B1A0-4E25-B8F2-E1269052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AE7F-E33B-4965-9E30-50B815D1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4258-02BD-412A-B90B-50D2A9A7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5238-9DAB-4AB0-B41E-AAC0E5A7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05E7-5432-4314-806A-E06EEFAF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A296-0312-4374-86B5-5646C7F9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2E28-0B77-4470-BB20-2D5C188C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55D9-FBAD-484E-91AA-2D33EF42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BB33-4BE0-4FEE-AB54-404BEDC2D1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795F-7DF8-41C0-A520-2E98F2074A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바탕"/>
              </a:rPr>
              <a:t>The Bronze Serpent</a:t>
            </a:r>
            <a:r>
              <a:rPr b="0" lang="en-US" sz="5400" spc="-1" strike="noStrike">
                <a:solidFill>
                  <a:srgbClr val="ccaa00"/>
                </a:solidFill>
                <a:latin typeface="바탕"/>
              </a:rPr>
              <a:t>	</a:t>
            </a:r>
            <a:br>
              <a:rPr sz="5400"/>
            </a:b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ember 27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Did God love His people?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id God show His lov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ccaa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abic Transparent"/>
              </a:rPr>
              <a:t>He gave them Moses, who showed them miracles that only God could 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ccaa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abic Transparent"/>
              </a:rPr>
              <a:t>He made pharaoh submit to His will and release his peo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aa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oses, with God’s hand, struck the sea and split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aa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Lord led them with a cloud by day, and a pillar of fire by n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aa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abic Transparent"/>
              </a:rPr>
              <a:t>The Lord sent His people manna and quails so that they wouldn’t star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aa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abic Transparent"/>
              </a:rPr>
              <a:t>When they were walking in the wilderness and needed water, God gave them water from a roc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aa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abic Transparent"/>
              </a:rPr>
              <a:t>He cared about their souls and gave Moses the Two tablets of Coven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Would YOU give up on God?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God did all this for you…would you stop trusting him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people did!! They complained bout the manna and quail that they ate for a long time in the wilder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punished them with serpents that bit them and a lot of them died. All because they spoke badly about God.  This was their punishmen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2838240" cy="217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457200" y="1143000"/>
          <a:ext cx="4027320" cy="21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143000"/>
                    <a:ext cx="402732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" descr="Image Preview"/>
          <p:cNvPicPr/>
          <p:nvPr/>
        </p:nvPicPr>
        <p:blipFill>
          <a:blip r:embed="rId4"/>
          <a:stretch/>
        </p:blipFill>
        <p:spPr>
          <a:xfrm>
            <a:off x="990720" y="3886200"/>
            <a:ext cx="2895480" cy="198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I’m Sorry”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were they punish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they realize what they were doing was wro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nt to Moses and said, “We are sinners, please take these serpents away. We are sorry we sinned against You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96920" y="1905120"/>
            <a:ext cx="2873520" cy="373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Forgive them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es went to a lonely place, and prayed to the Lord and said, “I have sinned and these people have sinned against you.  Forgive me and them and take these serpents away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God was sooo mad at them that He didn’t listen to Moses……….righ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4402080" cy="3352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The bronze serpen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ON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LOVED Moses and His people soo much…especially since they repe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told Moses to make a bronze serpent and put it on a pole so that anyone that was bitten could look at it and be hea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d they believe this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2719440"/>
            <a:ext cx="4038480" cy="2255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What does the serpent resemble? 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else heals us from our sin, no matter WHEN, how MANY, and how HORRIB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onze serpent = The sacrifice of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266688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Conclusion: Why go through all this trouble God?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did God want to make them go through the trouble of making a bronze serpent? Putting it on a stick? Making people look at it? Couldn’t He just heal them right away? Without the middle m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as He trying to teach his peop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58680" y="1828800"/>
            <a:ext cx="2921040" cy="388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Memory Verse</a:t>
            </a:r>
            <a:br>
              <a:rPr sz="4000"/>
            </a:b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441972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ve sinned, for we have spoken against the Lord and against you.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Numbers 21: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743200" y="914400"/>
            <a:ext cx="3505320" cy="32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6:33:40Z</dcterms:created>
  <dc:creator>esmat</dc:creator>
  <dc:description/>
  <dc:language>en-US</dc:language>
  <cp:lastModifiedBy> </cp:lastModifiedBy>
  <dcterms:modified xsi:type="dcterms:W3CDTF">2005-11-27T00:54:43Z</dcterms:modified>
  <cp:revision>5</cp:revision>
  <dc:subject/>
  <dc:title>The Bronze Serpent  </dc:title>
</cp:coreProperties>
</file>